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6AE-8588-4D22-AC45-3F89E6C4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100-9DDB-4D56-BE33-D1296D54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93077-E693-42D0-9CB2-6987117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36F8D-F682-49DE-BCAC-5BC07FA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994DB-EF51-4A44-A638-A050D39B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84E9-6E7D-4551-ADDD-5808526F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3E2B8-5CCA-4AED-9F69-D0D8570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ADA4-A8D4-4F4C-A338-A2CAFAD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DE426-9C3C-4FE2-AA1C-97556D8E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47AA4-7554-444B-8F1F-017444FA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A833D-D4E1-40DF-889E-5BBDEBEB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C9BB7-377E-4858-9AD9-C5D0AB7E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FB-2865-4F63-A5BD-0CE4B48C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BE757-E769-4E59-9A21-7CF7401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E9B4-4B0A-4A91-83F5-6891324A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56F3B-F7C0-49A3-95A9-F6853F9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090C-7598-4FB8-A2D0-A580BFD4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83253-8B87-4F0C-B3A4-6716FF4C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6280E-7AF8-46C4-9966-0471F2B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8654C-427E-4BEF-8E50-C2433CBD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3EEFD-E18E-49AB-B6AA-549AA110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E1504-8CE6-4C11-BC9D-881CE4CB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CC5EC-8C6F-4C95-8162-A998224A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324C-7CF0-46E3-968A-AE219D11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147EB-263D-42FA-AD77-A69BD124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9997B-2465-4333-AD9A-EF1BDB40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8A47D-AF23-4B13-AE3F-2FB53166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FCA7-4CF5-4450-8E2F-168BA78A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488F-6313-445E-9F5B-53DA6B01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BE10-06B1-4F59-B725-404A29F0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2CC23-ECB6-4C57-93B0-40BDE9CF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79F0C-27BE-49DF-8DFC-EC691AB4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2F21-4E31-4086-8621-421EB99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A6FD9-32C9-470B-AB78-E7F7D5B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5FA9-C90F-49F2-BFAA-6CA3F2CC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A52F0-2CA9-441B-8C41-532A02F9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490AB-FD69-4318-9404-4C2C32DB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ED2EA-1FB6-4BFF-8ADC-F05D7FB3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1D89-C423-4459-A075-3B772B4B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36C2-3CF3-4FA9-8A15-09798849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5D6-4E0B-41DF-9726-3AFE17D5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9D9F-DEE5-4E13-8238-1254FD3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78DC-2BB8-4371-9711-24A24580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8DF-729D-466F-92FD-918A86A0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F2F-4867-4840-803C-FBA15001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EEB9-3493-4244-9442-58B0C37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F32-6154-485E-B35C-977340D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BFCD-8E4F-4A45-9859-A23B5086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925C-C443-4B52-9D81-217170D2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6F8B-8726-446F-B67D-546B017A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35B26-1A72-4A0D-8D65-3269E46F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7783-1E79-4A3C-833B-8D69B552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76971-A816-408F-9B0D-2FCD019C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B613-7A30-4F83-ADA9-24A1D1B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13491-07BB-4D8B-9900-C0F7124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F30-5998-40B2-A6B0-71A87017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A502-95CE-4D5A-A1F6-E74D183D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0649-A913-41CD-9BE2-E8151C0F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3A78-0012-4EC6-88AA-0B0C6A9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1773E-318B-4DA2-8F51-750E0A18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C963-6395-4E20-9B01-56DAAD8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1158A-BF1B-4E0D-AB61-53CAA8DD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5F57-BD20-4395-8129-896E1004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8800-AD8F-41EA-8E57-B624070A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BDF1-8CEA-4744-A456-5A1D6772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D019-0292-4D8F-998E-5F2C65C8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17C-6426-4A92-8816-A53C30EF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A188-D0D3-4A44-A0FF-EF4BD1B2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ECE29-B4A1-4327-A1D1-D360D5A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6399-0A69-4514-9B1A-B2D0B00B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7D0F-8499-4B16-BD33-D06BCEB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3E59F-8F29-45BA-B883-4E836BD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A183E-4E77-43C1-AA69-68340BCB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1617-F0F7-46B5-B3AA-8FF5C56E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A84E3-0A04-483A-81C9-20F8F632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C3776-6EA2-4BF0-85D7-478BED46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1BB75-4AB6-4640-907A-A5B6E554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151-1EC4-44E7-A340-E89FABB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D70EC-D2FE-4684-9E33-163E32D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A125-0E44-4B1D-8050-EC0D2513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4910-D7B2-48E0-B550-86D1B152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BD1C-ADA8-4323-97A4-DF5F32CC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D0E0-12CE-446E-A1FC-844A8E96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3106-B084-4D08-8791-89A4482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05E11-2E4C-4488-AD44-E7F42C22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996B2-4D04-4665-89F8-A043240C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6A98-7C6C-431F-826F-F0F73C78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84CC-C27F-43A9-9DCD-B4D2EA38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6C1-0788-41DE-BE09-2768D10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12A46-AF6E-4346-B913-AFBF852F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126D-47A9-4C76-A17F-D512FDAD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1CBCB-AE06-48DC-9A3F-8736273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7431D-B498-4D1D-B542-33B954F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128A1-F81B-4909-A3A5-35392DEE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42582-EDA4-4EDF-B83D-56A4EFFF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7B93-228C-4581-AA81-8756E60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2E456-6B72-464D-980A-4B52FF8F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877C9-9E0D-4F2F-BB61-1E572427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6FDF-EBF7-41F6-86E0-1505CA8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FF9-2DE8-4530-81D3-C1F6918E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5EDEF-9806-47FE-AE5B-A1437BA2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4829A-9CF1-4118-B46F-A6AB2BB1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C7BDF-92FF-496D-91B0-0BC9E03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B782A-85C8-4CE3-94EB-5CB9EC97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35C5B-E3D4-4332-AE94-EB4F54A8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0AA21-25F5-42AB-B197-D3E75CC6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1F551-9E9C-46FA-AB8A-986276E1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C4C9-9331-4E05-9404-04014E9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2BCA-74C8-4EE9-BBF2-F3E6E521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B9E9-802B-49C4-BCAB-DD03775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DE-6942-4EDE-B465-14D55AED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1D6B3-4AA9-48BA-B474-AB57B2BC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BE34-5910-4385-ACF2-BB36DF4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ABDA7-4898-4B38-9AE5-AC612E4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BEC27-3494-4163-83CB-ADEBA022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2C6B-4605-4E9C-AE7A-536A7236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2756A-EF86-45B1-974A-E7AEB53E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AED67-7429-4D5B-A8EB-BE32DE7E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50331-B4E1-40D5-BF00-08B6DA2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C378C-BD60-4E65-AC57-2257A7E6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CB08-2B43-413E-9BFA-8C8AADB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109-FE46-4022-99F5-092061E9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DA603-7866-41FA-A792-69DEE93B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EA634-AA7D-4F24-AF7F-85CDFC01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16044-4DAD-4FC0-8C37-D8B0CB5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FEFC9-A078-478B-B224-2E8854B2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9E339-645C-4DF9-9F9D-A4A2B05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CED54-5DCF-48C0-AD83-959FA698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72C4-9F48-4DFD-BDBF-4A05524E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E7D90-2C90-4779-A9BE-A6D3B8F8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C214-FCAC-4533-AB29-AC7B0D9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D996B-31D6-4DA7-B6AE-37A5DD9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9D07-69EC-4CD5-8375-C7C700493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5A2E-ECD0-471D-B1C4-7ED1FFB4C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KEN GHOS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79D6-C8D6-423A-B008-44BF05F98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ED2-DD4D-43F3-BC86-3F6E38E69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963-DC8D-41EB-86DC-7B44E7C1F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E714-4B44-4286-A2AE-7D3B27CC2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85D-73E8-40A4-B7D0-10D4AFEBC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B6D-5021-4ADA-8413-9131F3F0F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250A-8F3A-4D7F-9434-FDCAEABC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649-4F16-4375-9327-66BBF1AC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0A3C-36DB-436B-9D6B-F397353B8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ROKEN GHOST"/>
              </a:rPr>
              <a:t>3.2: Quadratic Equations and Problem Solving</a:t>
            </a:r>
            <a:endParaRPr b="0" lang="en-US" sz="48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5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basic concepts about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actoring, complete the square, and the quadratic formula to solve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scrimin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roblems involving the quadrat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What is a quadratic equation?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olve for x, what are you finding on th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=0, aka the x-inter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793960" cy="286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Solving by factoring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into the form (x+m)(x+n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+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KEN GHOST"/>
              </a:rPr>
              <a:t>Using the square root [property</a:t>
            </a:r>
            <a:endParaRPr b="0" lang="en-US" sz="40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k, square root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Completing the square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-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+4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The quadratic formula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b ± √b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x-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KEN GHOST"/>
              </a:rPr>
              <a:t>The discriminant</a:t>
            </a:r>
            <a:endParaRPr b="0" lang="en-US" sz="4400" spc="-1" strike="noStrike">
              <a:solidFill>
                <a:srgbClr val="000000"/>
              </a:solidFill>
              <a:latin typeface="BROKEN GHOS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criminan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&gt;0, there are two re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= 0, there is one real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ac &lt;0, there are NO re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8:06:15Z</dcterms:created>
  <dc:creator>nuhs</dc:creator>
  <dc:description/>
  <dc:language>en-US</dc:language>
  <cp:lastModifiedBy>nuhs</cp:lastModifiedBy>
  <dcterms:modified xsi:type="dcterms:W3CDTF">2008-01-25T21:24:34Z</dcterms:modified>
  <cp:revision>5</cp:revision>
  <dc:subject/>
  <dc:title>3.2: Quadratic Equations and Problem Solving</dc:title>
</cp:coreProperties>
</file>